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D397-869C-408B-B976-BA836C723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860D-6F9F-4BFD-8153-FE7116BA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DE7D-CD2E-4DC6-9C5D-6887F81E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A53A-AD34-47DB-B07B-78875354B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0FEA-4696-467A-A5AB-EF4951589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88B6-51A8-470F-8AE0-F5336F1A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9C38-6800-4953-B2BC-B7AAF4B9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FDED-99EB-42EF-94DA-891B7A6F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101C-13D5-461B-8460-3565651C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B0EB-96CF-48AB-9E30-E1455BE6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874C-6F37-4CE4-A083-215FB5A1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49A3-33D5-4B52-B684-D29A6C35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0D0F-17B2-47DF-B28C-883F44B9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2263-F25C-4BD0-B38C-978C63D5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41B6-0F96-4B30-B346-D7808F46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99D2-68DA-405A-8849-703FBCE19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19E0-F758-4A41-8C7E-C959DDF70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F9A4-A68A-4B08-946D-4E21E7D4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227E-5B43-4CA1-8369-E01E6CB9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2D23-4CA7-4EF5-A155-E5EC05C1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4152-D2C9-4FEC-B92D-D8ED15C3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4AEF-A141-414C-BA44-CFF2B799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CEAE-87D5-41B5-B8E5-18B9D820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F1FA-0831-434C-B182-26B4B40B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spcBef>
                <a:spcPts val="774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3" marL="1600200" indent="-228600">
              <a:spcBef>
                <a:spcPts val="774"/>
              </a:spcBef>
              <a:buClr>
                <a:srgbClr val="ff0000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4" marL="2057400" indent="-228600">
              <a:spcBef>
                <a:spcPts val="774"/>
              </a:spcBef>
              <a:buClr>
                <a:srgbClr val="6600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C311-4E0C-447E-8061-5F407EC7A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ootlight MT Light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ootlight MT Light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C761-D525-47BC-9ED3-79F9D17F8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ootlight MT Light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ootlight MT Ligh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Footlight MT Light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Footlight MT Ligh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SzPct val="150000"/>
              <a:buFont typeface="Footlight MT Ligh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ootlight MT Light"/>
            </a:endParaRPr>
          </a:p>
          <a:p>
            <a:pPr lvl="4" marL="1828800" algn="ctr">
              <a:spcBef>
                <a:spcPts val="499"/>
              </a:spcBef>
              <a:buClr>
                <a:srgbClr val="6600ff"/>
              </a:buClr>
              <a:buSzPct val="150000"/>
              <a:buFont typeface="Footlight MT Ligh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ootlight MT Ligh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ootlight MT Ligh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cps.org/offices/lis/feebased/index.html" TargetMode="External"/><Relationship Id="rId2" Type="http://schemas.openxmlformats.org/officeDocument/2006/relationships/hyperlink" Target="http://bcpslibraryinformationservices.pbwork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ff0000"/>
                </a:solidFill>
                <a:latin typeface="Arial Black"/>
              </a:rPr>
              <a:t>What is Technology Integration?</a:t>
            </a:r>
            <a:endParaRPr b="0" i="1" lang="en-US" sz="4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ootlight MT Light"/>
              </a:rPr>
              <a:t>Fall 2010</a:t>
            </a:r>
            <a:endParaRPr b="0" lang="en-US" sz="33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Why is technology integration becoming so important? (#1)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More individualized for the students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spcBef>
                <a:spcPts val="649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ootlight MT Light"/>
              </a:rPr>
              <a:t>Not teacher lead</a:t>
            </a:r>
            <a:endParaRPr b="0" lang="en-US" sz="26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spcBef>
                <a:spcPts val="649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ootlight MT Light"/>
              </a:rPr>
              <a:t>More hands on </a:t>
            </a:r>
            <a:endParaRPr b="0" lang="en-US" sz="26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Support is built into the technology 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 Black"/>
              </a:rPr>
              <a:t>How does technology support a constructivist approach to instruction?</a:t>
            </a:r>
            <a:r>
              <a:rPr b="0" lang="en-US" sz="2900" spc="-1" strike="noStrike">
                <a:solidFill>
                  <a:srgbClr val="ff0000"/>
                </a:solidFill>
                <a:latin typeface="Arial Black"/>
              </a:rPr>
              <a:t> (#2)</a:t>
            </a:r>
            <a:endParaRPr b="0" lang="en-US" sz="29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Individual to each learner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Can connect to their prior knowledge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Freedom to make personal connections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E-Portfolios and ways to share information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Learner centered environment- they can “own” the information and learning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No limits to the learning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Self- directed 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Usage of different mediums (videos, flipcams, and 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Arial Black"/>
              </a:rPr>
              <a:t>What are barriers teachers face when it comes to tech integration? (#3) </a:t>
            </a:r>
            <a:endParaRPr b="0" lang="en-US" sz="29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Preparation- teachers feel unprepared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Lack of computers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Lack of tech support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ootlight MT Light"/>
              </a:rPr>
              <a:t>Lack of professional development </a:t>
            </a:r>
            <a:endParaRPr b="0" lang="en-US" sz="22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Know the programs…let the students know the program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Develop a Plan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Thin-client technology” 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Simplified IT management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ootlight MT Light"/>
              </a:rPr>
              <a:t>Customize desk configuration </a:t>
            </a: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 Black"/>
              </a:rPr>
              <a:t>Why is technology integration the perfect tool for accommodating different learning styles?</a:t>
            </a:r>
            <a:endParaRPr b="0" lang="en-US" sz="25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Garners’ Multiple Intelligences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20720" indent="-277200">
              <a:spcBef>
                <a:spcPts val="649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ootlight MT Light"/>
              </a:rPr>
              <a:t>Computer can meet numerous needs all at once</a:t>
            </a:r>
            <a:endParaRPr b="0" lang="en-US" sz="26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20720" indent="-277200">
              <a:spcBef>
                <a:spcPts val="649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ootlight MT Light"/>
              </a:rPr>
              <a:t>Ex. Logical- Math—game formats and math formats; visual-spatial – saving folders; kinetics - eye-hand coordination</a:t>
            </a:r>
            <a:endParaRPr b="0" lang="en-US" sz="2600" spc="-1" strike="noStrike">
              <a:solidFill>
                <a:srgbClr val="000000"/>
              </a:solidFill>
              <a:latin typeface="Footlight MT Light"/>
            </a:endParaRPr>
          </a:p>
          <a:p>
            <a:pPr marL="332640" indent="-33264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ootlight MT Light"/>
              </a:rPr>
              <a:t>Learning Preferences and Styles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720720" indent="-277200">
              <a:spcBef>
                <a:spcPts val="649"/>
              </a:spcBef>
              <a:buClr>
                <a:srgbClr val="66ccff"/>
              </a:buClr>
              <a:buSzPct val="150000"/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ootlight MT Light"/>
              </a:rPr>
              <a:t>Many programs to satisfied styles of learners </a:t>
            </a:r>
            <a:endParaRPr b="0" lang="en-US" sz="26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What resources should/could we be using?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ff3300"/>
                </a:solidFill>
                <a:uFillTx/>
                <a:latin typeface="Footlight MT Light"/>
                <a:hlinkClick r:id="rId1"/>
              </a:rPr>
              <a:t>BCPS Databases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ff3300"/>
                </a:solidFill>
                <a:uFillTx/>
                <a:latin typeface="Footlight MT Light"/>
                <a:hlinkClick r:id="rId2"/>
              </a:rPr>
              <a:t>Library WIKI</a:t>
            </a:r>
            <a:endParaRPr b="0" lang="en-US" sz="3100" spc="-1" strike="noStrike">
              <a:solidFill>
                <a:srgbClr val="000000"/>
              </a:solidFill>
              <a:latin typeface="Footlight MT Ligh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800600" y="1752480"/>
            <a:ext cx="2895480" cy="2239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21:23:11Z</dcterms:created>
  <dc:creator>BCPS</dc:creator>
  <dc:description/>
  <dc:language>en-US</dc:language>
  <cp:lastModifiedBy>BCPS</cp:lastModifiedBy>
  <dcterms:modified xsi:type="dcterms:W3CDTF">2010-09-08T22:21:22Z</dcterms:modified>
  <cp:revision>4</cp:revision>
  <dc:subject/>
  <dc:title>What is Technology Integration?</dc:title>
</cp:coreProperties>
</file>